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12.wmf" ContentType="image/x-wmf"/>
  <Override PartName="/ppt/media/image16.wmf" ContentType="image/x-wmf"/>
  <Override PartName="/ppt/media/image5.gif" ContentType="image/gif"/>
  <Override PartName="/ppt/media/image7.jpeg" ContentType="image/jpeg"/>
  <Override PartName="/ppt/media/image23.gif" ContentType="image/gif"/>
  <Override PartName="/ppt/media/image3.png" ContentType="image/png"/>
  <Override PartName="/ppt/media/image11.wmf" ContentType="image/x-wmf"/>
  <Override PartName="/ppt/media/image6.wmf" ContentType="image/x-wmf"/>
  <Override PartName="/ppt/media/image22.gif" ContentType="image/gif"/>
  <Override PartName="/ppt/media/image13.wmf" ContentType="image/x-wmf"/>
  <Override PartName="/ppt/media/image8.jpeg" ContentType="image/jpeg"/>
  <Override PartName="/ppt/media/image9.jpeg" ContentType="image/jpeg"/>
  <Override PartName="/ppt/media/image30.wmf" ContentType="image/x-wmf"/>
  <Override PartName="/ppt/media/image4.gif" ContentType="image/gif"/>
  <Override PartName="/ppt/media/image2.wmf" ContentType="image/x-wmf"/>
  <Override PartName="/ppt/media/image29.wmf" ContentType="image/x-wmf"/>
  <Override PartName="/ppt/media/image1.png" ContentType="image/png"/>
  <Override PartName="/ppt/media/image19.gif" ContentType="image/gif"/>
  <Override PartName="/ppt/media/image10.wmf" ContentType="image/x-wmf"/>
  <Override PartName="/ppt/media/image14.gif" ContentType="image/gif"/>
  <Override PartName="/ppt/media/image25.wmf" ContentType="image/x-wmf"/>
  <Override PartName="/ppt/media/image15.jpeg" ContentType="image/jpeg"/>
  <Override PartName="/ppt/media/image26.wmf" ContentType="image/x-wmf"/>
  <Override PartName="/ppt/media/image17.wmf" ContentType="image/x-wmf"/>
  <Override PartName="/ppt/media/image18.gif" ContentType="image/gif"/>
  <Override PartName="/ppt/media/image20.wmf" ContentType="image/x-wmf"/>
  <Override PartName="/ppt/media/image21.wmf" ContentType="image/x-wmf"/>
  <Override PartName="/ppt/media/image24.jpeg" ContentType="image/jpeg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922-0442-49AE-B194-0559779C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ECF-4404-4F7B-A4E4-18B378E5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BE9-6DB7-4596-BD74-33F2A2EB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3E3-67B4-4787-BA04-EAD04B0A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D3BD-41B7-4A9B-8D73-E45281DC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4DF4-7125-4F8F-9FF4-0C6F6FD0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467A-1E36-49B4-8D74-39544272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7B67-B9E8-4426-83D9-4F42C8D5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04D3-C5CF-42B6-B0AD-18DFB57D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B720-3C07-48BF-96AA-5F4C3B31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BC06-E8EE-4474-BE05-3F9A542E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946-3876-485F-B66D-999C3598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11CB-D246-4397-A3C6-83500727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C0B1-3569-43BB-8664-725B82F9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F91E-90A8-48A2-8182-08603C3A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EA4A-6C9D-4EC9-B201-9063ED90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87DF-C947-4068-8949-C5FBA5D9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9820-AD01-45FE-8FCB-B5A8ADED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FF9-4A31-406F-878C-4AB0352E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E97-9EEE-4C91-83B9-DA296D8E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7F3-FD09-4DC5-A870-843AC170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E0B-DE65-46BB-A2EB-6530DC0E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022-FEF7-4100-B038-619F6DB4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A4E-7878-4141-8D1A-34CEAD2B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21DC-B360-4B06-8FBA-A90E2C4AEA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4932-A64F-4AF8-B7A5-E8C31FD399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gi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Dear Jun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Vocabulary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Amazing Word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Grade Rea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transport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o carry something somewhere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95680" y="4267080"/>
            <a:ext cx="2210040" cy="1863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1390680" cy="183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743200" y="388620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705720" y="2286000"/>
            <a:ext cx="200952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cove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small part of a sea or lake partly surrounded by land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14600" y="3255840"/>
            <a:ext cx="4267080" cy="24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footprint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mark your foot makes when you step on something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1854360" cy="1803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3562200" cy="76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934320" y="3886200"/>
            <a:ext cx="1676160" cy="2278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286000" y="4495680"/>
            <a:ext cx="126684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9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deaf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o not be able to hear well or at all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1817640" cy="1824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664080" y="2786040"/>
            <a:ext cx="3803400" cy="269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imitate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o try to act like or to be like the person or thing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76720" y="3276720"/>
            <a:ext cx="2209680" cy="2647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74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sign language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way of talking by making signs with your hands to communicate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1590840" cy="1827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895480" y="4267080"/>
            <a:ext cx="2003400" cy="1467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791320" y="3657600"/>
            <a:ext cx="1463400" cy="1805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Vocabulary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envelope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persimmons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photograph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smudged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envelope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folded paper cover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00400" y="3809880"/>
            <a:ext cx="1635120" cy="1578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477120" y="2133720"/>
            <a:ext cx="2057400" cy="183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553080" y="4181400"/>
            <a:ext cx="2743200" cy="1352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persimmons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ound, yellow, and orange fruit about the size of a plum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86000" y="3733920"/>
            <a:ext cx="4672080" cy="2528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858000" y="3124080"/>
            <a:ext cx="1803240" cy="14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photograph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picture you make with a camera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38280" y="3276720"/>
            <a:ext cx="4038840" cy="26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smudged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ked with a dirty streak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24080" y="2590920"/>
            <a:ext cx="2425680" cy="3124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Amazing Words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correspond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postage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transport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cove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footprint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deaf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imitate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sign language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correspond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o communicate with another person (e.g. letters, text message, email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etter"/>
          <p:cNvSpPr/>
          <p:nvPr/>
        </p:nvSpPr>
        <p:spPr>
          <a:xfrm>
            <a:off x="3276720" y="3657600"/>
            <a:ext cx="2266920" cy="1133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1841760" cy="1305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629400" y="3581280"/>
            <a:ext cx="1908000" cy="1959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733920" y="4952880"/>
            <a:ext cx="1841400" cy="16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postage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money you pay to send a letter or something you want to mail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2092320" cy="1784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29400" y="3581280"/>
            <a:ext cx="182232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276720" y="3733920"/>
            <a:ext cx="2514600" cy="2011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2:42:05Z</dcterms:created>
  <dc:creator>Secretary</dc:creator>
  <dc:description/>
  <dc:language>en-US</dc:language>
  <cp:lastModifiedBy>dyera</cp:lastModifiedBy>
  <dcterms:modified xsi:type="dcterms:W3CDTF">2007-11-12T19:09:32Z</dcterms:modified>
  <cp:revision>4</cp:revision>
  <dc:subject/>
  <dc:title>Dear Juno Vocabulary and  Amazing Words</dc:title>
</cp:coreProperties>
</file>